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6D2-F498-4729-86E3-110820ED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43C-0FA1-4A63-8E93-837A208A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4605-6C06-47DA-8E37-24804B7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47A29-3861-4C2E-9F29-6DFE8382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1CBF3-C0F4-4FE1-9A3D-3CAB5D5D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5FDE3-0D57-4A0C-91F0-9185685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D26CA-B1AF-4B43-83DE-779AED0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BD161-D13C-4861-B691-D24B2BF0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B6E9-B8E1-418B-904D-5FE33DAF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90B72-245D-478D-8881-73E85748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7FB95-B736-42E8-97D7-1BF212BD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8A98A-C83E-4D10-A4F2-17CA744A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B54-1193-47AC-B489-F84A2817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C8867-7A8A-4C27-A6AB-A4DBF4A1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4FAA9-6FDC-4801-83C2-DEF9B6E1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714D7-BFD7-4B21-BE31-CB964692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409F2-CDFB-4A7B-8210-806109F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A0441-6B6A-4FCA-88CE-72E42203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C0E69-EA73-4527-B7A2-B3A5406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6205E-5EF1-42AD-85A4-569CF07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C611F-F13D-425F-9741-328E534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D2D5-6CD7-46E2-800F-5443B12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A7A31-F481-4DAB-8E39-C5551968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ED7-E73A-420A-91E2-DC269F52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AC09F-668F-4533-AE6F-9F08349B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C9FC4-5BE3-40E6-9E9C-8FED0EA4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A84ED-F7E4-48DC-A5D0-008F499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DEA28-34D9-4DD0-865D-B2CD38CF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8DE4A-DDBD-4092-BDA1-CD389F0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F383E-A2C6-4D4D-8822-D16290E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5BA2F-E327-4EC2-AE8E-ECBBBF3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11CD8-9D30-4D7A-9ED7-5D6C1E8A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8CE98-AF2B-4C2F-A9C3-3C09C75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B0393-68A1-40C2-B113-F3079AF4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5E7-6854-4381-AAC6-0F487EEE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C4D9D-C547-49A0-B53D-F429AE2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F9187-F11E-4BD5-99D2-D0D0E69D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BD4C5-DD09-42AD-ACCE-C5D9AEF2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F62A0-3E7B-4661-BD2D-AC9A2B8D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4633D-0EC5-4879-BE0D-F1BEEB5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7BE60-9729-4E7A-ABED-C8B43F41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4C86D-817B-48D1-8665-6B50BA0F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E472C-69CF-41AD-B9DA-8F784A0F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CEC96-5CBD-4F9B-8A63-31111D9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3862F-519B-446B-9413-55EEFB11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3F6-B5EE-4E5D-8EAD-C04BC7EE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FE55F-D960-4006-B58E-1E9AB62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81790-1D5A-467B-B589-DFC61E47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5E33B-9292-4331-9924-96C69A0D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BE460-D564-4D9D-A247-A1A700BA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E424E-CF83-42D0-BD4E-9B89FEE7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B66C-1286-4037-80A3-BF48085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B08-039C-413F-8A23-3A250AE5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21CE-D3AB-4CD8-BCFC-00D511F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DD63-C889-45F8-906C-17F877E9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F4A6-17FF-43C6-9BE4-90284DA2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473-A831-426C-B9C8-D0DB4CE1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453F-3444-4C13-BA56-5E2FD1C9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95CE-750D-4904-8E21-A88EAA0F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123-8BF3-4750-8CBF-1DF931BC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18A-765F-4B60-833B-7D812B49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BE86-8291-4BD1-9644-4B67BC87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D072-05F2-4337-B9FC-AE7C8274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4291-C194-416C-8705-969B6B5A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EBA2-9188-4B7E-85B8-B278E836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2AEF-E3D3-4DCD-8E45-9A3D8187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3C79-D1C5-4CF3-867D-65F86646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526-7DEF-4FCC-9D6B-C9A28A1C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F9DD3-18C3-4A6D-8C50-8843836B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5444-04D6-4EC0-A142-4B21C42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D8ED-D537-4B8B-9198-78DC4D1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95874-FA4D-4981-BA26-04DCD0E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6D15-F7AC-41C6-A073-748C6F6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73BE-32F4-467D-B74A-2186F09F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B003-2559-4F3C-B447-24FD49C5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79F2-356C-4A45-9248-3A546916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D90AA-BAE2-48C2-8BB5-DC37CC8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36EB-BABE-442D-A65D-4C85F8BE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70E-7063-4FDA-9AD7-9A02469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2548-DF42-46D1-9E05-E845875F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7C991-F126-4219-B573-2BC509B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9BA9-B217-4399-87C9-DA689B5F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98806-9CD6-4424-A67F-95489454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7DBB-B731-45E3-8B3F-E62117F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38A2-BE61-4895-B6A1-C3791F84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DC74-8F95-4E4B-9668-F8CEF454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9F6FF-8458-4F74-8A03-0F0D279E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DE7D-FCAE-4840-B985-CD1309C7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8E52E-A748-4DC4-878A-B7C189A5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5ED-0FDD-4A87-B392-D0B7587C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39F7E-96CE-4AE9-A8E0-CC39347B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C1008-065E-4DD7-80F4-68561F6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571B-6E92-4F39-8900-3C5BBA2F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4AEAE-D396-421D-98A0-B4802183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D8588-8342-4403-AB31-56E2C213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8C87-EDFA-40AF-9F80-49A5060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68340-1392-47A7-82F7-6A6D320E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F0F7F-E2E8-49E9-B1BE-74C68AC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1EDB-02AB-43AE-809C-44126A78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C46F0-1B2F-4ECC-B646-3A98209F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7B7-54A0-4F97-8637-D90CE2EC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165CA-A5B1-4076-A0A0-F0F2BBC6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9D4C-763B-4093-AAA9-C79F47BA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F3698-E98E-439D-90B6-80EF4517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6D639-238E-4316-912A-28B706F1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2EA1-0142-42D2-9A66-04F421BA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54556-A18C-49B1-ACBF-8454B3E4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50922-647E-4F49-A189-956FEF0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33A5-9135-4B46-AE34-6E418D28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CF177-BA5F-40B9-878B-EA69537F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2BEB-04EE-40E1-8BE8-26906C14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327-201B-4540-9253-E1D223E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BBF9-9C3E-47C7-A089-21FC6CD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B2914-2B23-49D9-8404-D683EB7B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D2D68-7997-4CED-8A5A-6FBD96CD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BA00-D0EC-4A36-8921-9F8D77E9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FDBD-E90C-41B9-BDC2-D9BDA4DC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FB1AE-55BD-443E-ABA2-2B17113B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0C2B-A261-4846-AB2E-D308F1CC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8B161-EF5C-4B18-9518-4DA6B84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9B96C-9C1A-49FD-8040-434E45B5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1B22E-432C-414F-BE27-EFB7B28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8F0-AE74-4433-9DDC-DA736FDA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B1F9E-2BA5-49F7-969A-5BB14F9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97A89-C64D-4296-BE2C-6CF782F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FBABD-D4BB-4B31-90D2-18B7F89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DD7F-F985-4609-BBF2-CB14AA3A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A428-250D-4679-BC73-BF097353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BF59A-057D-4B63-A40D-5578C8DB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223C4-E84F-49BE-B13A-62BFD21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67B4-0CF7-4305-9620-0336AA98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CF58E-EB2A-45FC-B548-0E4EC4CC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D5FCA-0894-4622-B61E-9809BE83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EF4-142B-4BAF-B7CE-3BD2204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D224-0BE4-4FD6-A255-E11578D2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B0CF2-9267-4339-A561-6CF79CB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C0806-1246-4C90-A89A-9628B130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EEC88-0973-44FD-B3BD-D39D04F0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5998-7F33-4996-B86F-A60798B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7EA5E-FF8E-4A32-AAD4-C22F1736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0C765-3722-4790-A2AD-B8E4668A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375E1-DB35-4FD0-B6C2-F121A09D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C6424-9D76-46D6-AD06-778394C2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3DF8A-1BBB-4BDF-9146-C4EBC645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EDF3-3070-4B8E-9AAA-78A3B1C2A93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1FC9-ABEE-4BC8-85CE-8E8885D0D5D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43F-789F-4E30-8798-B7C399F7CCC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9DE0-F1D6-4C91-ABB4-B11673EACF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B7D7-01A5-4D37-A1FD-0537F026AA4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A491-2218-426D-9B69-8A142162C6B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9097-433E-4710-8760-36F1C065B54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CAF2-4CE1-43E7-9DBE-BA1AF893EB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B8E9-3985-4FCD-89DB-66F70D993A1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53AD-719E-4179-8D91-7C4F66417E8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B09-7A2E-41EE-A0D3-426FCC0CADE3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BCBF-5970-4C9C-B27E-DE152B01982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1CC8-9C42-4A63-B4EA-527B495DC8F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50F6-8124-47F2-8A11-DC9DCC6AD91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1EE5-A181-42C0-A192-EF287369798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B98A-6528-4676-AF88-8BD287BA09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C9EB-9013-4B86-921A-61FAE8B0B76F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C4E2-5316-4181-9FC4-A3A7999ACA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F9CD-450F-4B85-8602-51B499BD94C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F1B8-F560-4208-9C4C-B25C2C72ACF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139F-C297-4989-A0C0-9025C941870B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34B7-FA68-4CA6-BB55-D621983F3AC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3CA8-3C3E-4D09-96FB-D96ED95A274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F56-E1B8-4FB5-BFC9-015E74B437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21016;&#32676;&#12298;&#35910;&#33626;&#12299;.ppt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692360" y="126828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个豆荚里的五粒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060280" y="1981080"/>
            <a:ext cx="5102640" cy="7920"/>
            <a:chOff x="2060280" y="1981080"/>
            <a:chExt cx="5102640" cy="7920"/>
          </a:xfrm>
        </p:grpSpPr>
        <p:sp>
          <p:nvSpPr>
            <p:cNvPr id="508" name="直线连接符 21"/>
            <p:cNvSpPr/>
            <p:nvPr/>
          </p:nvSpPr>
          <p:spPr>
            <a:xfrm flipV="1">
              <a:off x="2060640" y="1981080"/>
              <a:ext cx="5102280" cy="79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 rot="10800000">
              <a:off x="2060280" y="1980720"/>
              <a:ext cx="510228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0" name="Picture 4" descr="3989814_211901015423_2"/>
          <p:cNvPicPr/>
          <p:nvPr/>
        </p:nvPicPr>
        <p:blipFill>
          <a:blip r:embed="rId1"/>
          <a:stretch/>
        </p:blipFill>
        <p:spPr>
          <a:xfrm>
            <a:off x="1905120" y="2362320"/>
            <a:ext cx="518148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20880" y="439200"/>
            <a:ext cx="266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ff"/>
                </a:solidFill>
                <a:latin typeface="Arial"/>
                <a:ea typeface="华文中宋"/>
              </a:rPr>
              <a:t>第五粒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该怎么样就怎么样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最后一粒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1066680" y="3505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14479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905120" y="4495680"/>
            <a:ext cx="4876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随遇而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喜欢过平静的生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838080" y="2209680"/>
            <a:ext cx="73152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粒最小的豌豆生长过程怎样的？画出相关语句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小豌豆的成长给生病的小姑娘带来了什么？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828720" y="106668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再读课文，思考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607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610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613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616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619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622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625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628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631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和霉菌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9" name="Picture 4" descr="复件 细读感悟"/>
          <p:cNvPicPr/>
          <p:nvPr/>
        </p:nvPicPr>
        <p:blipFill>
          <a:blip r:embed="rId1"/>
          <a:stretch/>
        </p:blipFill>
        <p:spPr>
          <a:xfrm>
            <a:off x="1720800" y="393840"/>
            <a:ext cx="2317680" cy="74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5">
            <a:hlinkClick r:id="rId1"/>
          </p:cNvPr>
          <p:cNvSpPr/>
          <p:nvPr/>
        </p:nvSpPr>
        <p:spPr>
          <a:xfrm>
            <a:off x="762120" y="17524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今天在我身上照得怪温暖的。这粒豆子长得好极了，我也会好起来的；我  爬起来，走到温暖的太阳光中去。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12"/>
          <p:cNvSpPr/>
          <p:nvPr/>
        </p:nvSpPr>
        <p:spPr>
          <a:xfrm>
            <a:off x="5853240" y="2178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能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13" descr="200_150_pps-000"/>
          <p:cNvPicPr/>
          <p:nvPr/>
        </p:nvPicPr>
        <p:blipFill>
          <a:blip r:embed="rId2"/>
          <a:stretch/>
        </p:blipFill>
        <p:spPr>
          <a:xfrm>
            <a:off x="4800600" y="3446640"/>
            <a:ext cx="419112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644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647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650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653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656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659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662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665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668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0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和霉菌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172908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攀着线向上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18"/>
          <p:cNvSpPr/>
          <p:nvPr/>
        </p:nvSpPr>
        <p:spPr>
          <a:xfrm>
            <a:off x="5181480" y="41148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小姑娘说话时比以前愉快，第一次能坐一整个钟头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Picture 4" descr="复件 细读感悟"/>
          <p:cNvPicPr/>
          <p:nvPr/>
        </p:nvPicPr>
        <p:blipFill>
          <a:blip r:embed="rId1"/>
          <a:stretch/>
        </p:blipFill>
        <p:spPr>
          <a:xfrm>
            <a:off x="1644480" y="533520"/>
            <a:ext cx="2318040" cy="67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5"/>
          <p:cNvSpPr/>
          <p:nvPr/>
        </p:nvSpPr>
        <p:spPr>
          <a:xfrm>
            <a:off x="762120" y="1523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她还是仔细地用一根小棍子把这植物支起来，好使它不至于被风吹断，因为它使女儿对生命产生了愉快的想象。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2878560" y="15238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仔细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Picture 10" descr="mzl_xdlnlbev_480x480-75"/>
          <p:cNvPicPr/>
          <p:nvPr/>
        </p:nvPicPr>
        <p:blipFill>
          <a:blip r:embed="rId1"/>
          <a:stretch/>
        </p:blipFill>
        <p:spPr>
          <a:xfrm>
            <a:off x="4191120" y="310500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683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686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689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692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695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698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701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704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707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9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和霉菌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17"/>
          <p:cNvSpPr/>
          <p:nvPr/>
        </p:nvSpPr>
        <p:spPr>
          <a:xfrm>
            <a:off x="172908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攀着线向上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8"/>
          <p:cNvSpPr/>
          <p:nvPr/>
        </p:nvSpPr>
        <p:spPr>
          <a:xfrm>
            <a:off x="51814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说话时比以前愉快，第一次能坐一整个钟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19"/>
          <p:cNvSpPr/>
          <p:nvPr/>
        </p:nvSpPr>
        <p:spPr>
          <a:xfrm>
            <a:off x="990720" y="5105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开出一朵盛开、粉红色的小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20"/>
          <p:cNvSpPr/>
          <p:nvPr/>
        </p:nvSpPr>
        <p:spPr>
          <a:xfrm>
            <a:off x="5029200" y="5105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脸上放出健康的光彩，眼睛发着亮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9" name="Picture 4" descr="复件 细读感悟"/>
          <p:cNvPicPr/>
          <p:nvPr/>
        </p:nvPicPr>
        <p:blipFill>
          <a:blip r:embed="rId1"/>
          <a:stretch/>
        </p:blipFill>
        <p:spPr>
          <a:xfrm>
            <a:off x="958680" y="469800"/>
            <a:ext cx="2318040" cy="59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5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小姑娘低下头来，轻轻地吻了一下它柔嫩的叶子。这一天简直像一个节日。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9"/>
          <p:cNvSpPr/>
          <p:nvPr/>
        </p:nvSpPr>
        <p:spPr>
          <a:xfrm>
            <a:off x="2203920" y="167652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4800600" y="1676520"/>
            <a:ext cx="43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11" descr="495582569_pic_4"/>
          <p:cNvPicPr/>
          <p:nvPr/>
        </p:nvPicPr>
        <p:blipFill>
          <a:blip r:embed="rId1"/>
          <a:stretch/>
        </p:blipFill>
        <p:spPr>
          <a:xfrm>
            <a:off x="4038480" y="299088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"/>
          <p:cNvGrpSpPr/>
          <p:nvPr/>
        </p:nvGrpSpPr>
        <p:grpSpPr>
          <a:xfrm>
            <a:off x="763200" y="2057400"/>
            <a:ext cx="8077680" cy="1440"/>
            <a:chOff x="763200" y="2057400"/>
            <a:chExt cx="8077680" cy="1440"/>
          </a:xfrm>
        </p:grpSpPr>
        <p:sp>
          <p:nvSpPr>
            <p:cNvPr id="725" name="Line 2"/>
            <p:cNvSpPr/>
            <p:nvPr/>
          </p:nvSpPr>
          <p:spPr>
            <a:xfrm flipV="1">
              <a:off x="763560" y="2057400"/>
              <a:ext cx="80773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 rot="10800000">
              <a:off x="763200" y="2057040"/>
              <a:ext cx="80773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685800" y="1066680"/>
            <a:ext cx="1440" cy="4977000"/>
            <a:chOff x="685800" y="1066680"/>
            <a:chExt cx="1440" cy="4977000"/>
          </a:xfrm>
        </p:grpSpPr>
        <p:sp>
          <p:nvSpPr>
            <p:cNvPr id="728" name="Line 3"/>
            <p:cNvSpPr/>
            <p:nvPr/>
          </p:nvSpPr>
          <p:spPr>
            <a:xfrm>
              <a:off x="685800" y="1066680"/>
              <a:ext cx="1440" cy="4977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685800" y="1066680"/>
              <a:ext cx="1440" cy="497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85800" y="1066680"/>
            <a:ext cx="8153280" cy="1800"/>
            <a:chOff x="685800" y="1066680"/>
            <a:chExt cx="8153280" cy="1800"/>
          </a:xfrm>
        </p:grpSpPr>
        <p:sp>
          <p:nvSpPr>
            <p:cNvPr id="731" name="Line 4"/>
            <p:cNvSpPr/>
            <p:nvPr/>
          </p:nvSpPr>
          <p:spPr>
            <a:xfrm>
              <a:off x="685800" y="1066680"/>
              <a:ext cx="815328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685800" y="1066680"/>
              <a:ext cx="815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8819640" y="1143000"/>
            <a:ext cx="19440" cy="4879800"/>
            <a:chOff x="8819640" y="1143000"/>
            <a:chExt cx="19440" cy="4879800"/>
          </a:xfrm>
        </p:grpSpPr>
        <p:sp>
          <p:nvSpPr>
            <p:cNvPr id="734" name="Line 5"/>
            <p:cNvSpPr/>
            <p:nvPr/>
          </p:nvSpPr>
          <p:spPr>
            <a:xfrm flipH="1">
              <a:off x="8819640" y="1143000"/>
              <a:ext cx="19080" cy="4879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8820000" y="1143000"/>
              <a:ext cx="19080" cy="48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87240" y="2971800"/>
            <a:ext cx="8151840" cy="1440"/>
            <a:chOff x="687240" y="2971800"/>
            <a:chExt cx="8151840" cy="1440"/>
          </a:xfrm>
        </p:grpSpPr>
        <p:sp>
          <p:nvSpPr>
            <p:cNvPr id="737" name="Line 6"/>
            <p:cNvSpPr/>
            <p:nvPr/>
          </p:nvSpPr>
          <p:spPr>
            <a:xfrm flipV="1">
              <a:off x="687240" y="2971800"/>
              <a:ext cx="815184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 rot="10800000">
              <a:off x="687240" y="2971440"/>
              <a:ext cx="8151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85440" y="3941640"/>
            <a:ext cx="8139600" cy="20880"/>
            <a:chOff x="685440" y="3941640"/>
            <a:chExt cx="8139600" cy="20880"/>
          </a:xfrm>
        </p:grpSpPr>
        <p:sp>
          <p:nvSpPr>
            <p:cNvPr id="740" name="Line 7"/>
            <p:cNvSpPr/>
            <p:nvPr/>
          </p:nvSpPr>
          <p:spPr>
            <a:xfrm flipV="1">
              <a:off x="685800" y="3941640"/>
              <a:ext cx="8139240" cy="2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 rot="10800000">
              <a:off x="685440" y="3941280"/>
              <a:ext cx="8139240" cy="2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685800" y="5028840"/>
            <a:ext cx="8153280" cy="360"/>
            <a:chOff x="685800" y="5028840"/>
            <a:chExt cx="8153280" cy="360"/>
          </a:xfrm>
        </p:grpSpPr>
        <p:sp>
          <p:nvSpPr>
            <p:cNvPr id="743" name="Line 8"/>
            <p:cNvSpPr/>
            <p:nvPr/>
          </p:nvSpPr>
          <p:spPr>
            <a:xfrm>
              <a:off x="685800" y="5029200"/>
              <a:ext cx="8153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 rot="10800000">
              <a:off x="685800" y="5028480"/>
              <a:ext cx="815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85800" y="6019920"/>
            <a:ext cx="8142120" cy="1440"/>
            <a:chOff x="685800" y="6019920"/>
            <a:chExt cx="8142120" cy="1440"/>
          </a:xfrm>
        </p:grpSpPr>
        <p:sp>
          <p:nvSpPr>
            <p:cNvPr id="746" name="Line 9"/>
            <p:cNvSpPr/>
            <p:nvPr/>
          </p:nvSpPr>
          <p:spPr>
            <a:xfrm>
              <a:off x="685800" y="6019920"/>
              <a:ext cx="81421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685800" y="6019920"/>
              <a:ext cx="81421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876920" y="1143000"/>
            <a:ext cx="1440" cy="4876920"/>
            <a:chOff x="4876920" y="1143000"/>
            <a:chExt cx="1440" cy="4876920"/>
          </a:xfrm>
        </p:grpSpPr>
        <p:sp>
          <p:nvSpPr>
            <p:cNvPr id="749" name="Line 10"/>
            <p:cNvSpPr/>
            <p:nvPr/>
          </p:nvSpPr>
          <p:spPr>
            <a:xfrm flipH="1">
              <a:off x="4876920" y="1143000"/>
              <a:ext cx="144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4876920" y="1143000"/>
              <a:ext cx="144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1" name="Text Box 11"/>
          <p:cNvSpPr/>
          <p:nvPr/>
        </p:nvSpPr>
        <p:spPr>
          <a:xfrm>
            <a:off x="8380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豌豆怎样长大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5391000" y="1413000"/>
            <a:ext cx="33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姑娘怎样长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755640" y="213372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豌豆钻进一个长满了青苔的裂缝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4952880" y="234936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姑娘身体非常虚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1173240" y="32004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豌豆长出了小叶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6013800" y="327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姑娘心里真高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1729080" y="42670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攀着线向上长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518148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说话时比以前愉快，第一次能坐一整个钟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9"/>
          <p:cNvSpPr/>
          <p:nvPr/>
        </p:nvSpPr>
        <p:spPr>
          <a:xfrm>
            <a:off x="990720" y="5105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豌豆开出一朵盛开、粉红色的小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20"/>
          <p:cNvSpPr/>
          <p:nvPr/>
        </p:nvSpPr>
        <p:spPr>
          <a:xfrm>
            <a:off x="5029200" y="51055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姑娘脸上放出健康的光彩，眼睛发着亮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WordArt 23"/>
          <p:cNvSpPr txBox="1"/>
          <p:nvPr/>
        </p:nvSpPr>
        <p:spPr>
          <a:xfrm>
            <a:off x="2362320" y="45720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66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归纳总结</a:t>
            </a:r>
            <a:endParaRPr b="1" lang="en-US" sz="2400" spc="1" strike="noStrike">
              <a:ln w="12600">
                <a:solidFill>
                  <a:srgbClr val="3366ff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716256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他虽平凡，却创造出非凡的成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5"/>
          <p:cNvSpPr/>
          <p:nvPr/>
        </p:nvSpPr>
        <p:spPr>
          <a:xfrm>
            <a:off x="457200" y="220968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认识“荚、豌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生字，会写“豌、按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字，会写“豌豆、以为”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个词语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读课文，了解课文内容。认真思考，提出问题，列出问题清单，并试着给这些问题分分类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感受小豌豆在长叶、爬藤、开花的生长过程中给生病的小姑娘带来的惊喜和活力，赞赏平实、仁爱、敬重生命的生活态度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同侧圆角矩形 2"/>
          <p:cNvSpPr/>
          <p:nvPr/>
        </p:nvSpPr>
        <p:spPr>
          <a:xfrm>
            <a:off x="252360" y="981000"/>
            <a:ext cx="200808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学习目标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2371680" cy="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同侧圆角矩形 2"/>
          <p:cNvSpPr/>
          <p:nvPr/>
        </p:nvSpPr>
        <p:spPr>
          <a:xfrm>
            <a:off x="252360" y="631800"/>
            <a:ext cx="2374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思考并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108000" y="1279440"/>
            <a:ext cx="2951280" cy="604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6" descr=""/>
          <p:cNvPicPr/>
          <p:nvPr/>
        </p:nvPicPr>
        <p:blipFill>
          <a:blip r:embed="rId3"/>
          <a:stretch/>
        </p:blipFill>
        <p:spPr>
          <a:xfrm>
            <a:off x="471600" y="2819520"/>
            <a:ext cx="947520" cy="3641760"/>
          </a:xfrm>
          <a:prstGeom prst="rect">
            <a:avLst/>
          </a:prstGeom>
          <a:ln w="0">
            <a:noFill/>
          </a:ln>
        </p:spPr>
      </p:pic>
      <p:sp>
        <p:nvSpPr>
          <p:cNvPr id="766" name="矩形 1"/>
          <p:cNvSpPr/>
          <p:nvPr/>
        </p:nvSpPr>
        <p:spPr>
          <a:xfrm>
            <a:off x="1479600" y="3102120"/>
            <a:ext cx="5454720" cy="459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豌豆的成长激发了小姑娘对生命的渴望，她希望自己也能像小豌豆一样长得又快又好。小豌豆开出了粉红色的小花，更给小女孩单调的病中生活带来了色彩和快乐，这让小女孩的病慢慢好了起来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609480" y="144936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随着豌豆苗的成长，为什么小女孩的病就慢慢好了呢？和同学交流你的想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同侧圆角矩形 2"/>
          <p:cNvSpPr/>
          <p:nvPr/>
        </p:nvSpPr>
        <p:spPr>
          <a:xfrm>
            <a:off x="252360" y="631800"/>
            <a:ext cx="2374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思考并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Picture 2" descr=""/>
          <p:cNvPicPr/>
          <p:nvPr/>
        </p:nvPicPr>
        <p:blipFill>
          <a:blip r:embed="rId2"/>
          <a:stretch/>
        </p:blipFill>
        <p:spPr>
          <a:xfrm>
            <a:off x="108000" y="1279440"/>
            <a:ext cx="2951280" cy="60480"/>
          </a:xfrm>
          <a:prstGeom prst="rect">
            <a:avLst/>
          </a:prstGeom>
          <a:ln w="0">
            <a:noFill/>
          </a:ln>
        </p:spPr>
      </p:pic>
      <p:sp>
        <p:nvSpPr>
          <p:cNvPr id="770" name="矩形 1"/>
          <p:cNvSpPr/>
          <p:nvPr/>
        </p:nvSpPr>
        <p:spPr>
          <a:xfrm>
            <a:off x="1479600" y="3102120"/>
            <a:ext cx="5454720" cy="8254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那粒钻进“长满了青苔的裂缝里”的豌豆最值得称赞，因为它发芽、开花，给窗子里躺着的小女孩带来了愉快和生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Picture 8" descr=""/>
          <p:cNvPicPr/>
          <p:nvPr/>
        </p:nvPicPr>
        <p:blipFill>
          <a:blip r:embed="rId3"/>
          <a:stretch/>
        </p:blipFill>
        <p:spPr>
          <a:xfrm>
            <a:off x="7164360" y="3859200"/>
            <a:ext cx="1106640" cy="307512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"/>
          <p:cNvSpPr/>
          <p:nvPr/>
        </p:nvSpPr>
        <p:spPr>
          <a:xfrm>
            <a:off x="609480" y="144936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五颗豌豆中，你觉得最值得称赞的是哪一粒？说说你的理解。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同侧圆角矩形 2"/>
          <p:cNvSpPr/>
          <p:nvPr/>
        </p:nvSpPr>
        <p:spPr>
          <a:xfrm>
            <a:off x="252360" y="631800"/>
            <a:ext cx="2374920" cy="53676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3f3ff"/>
                </a:solidFill>
                <a:latin typeface="Arial"/>
                <a:ea typeface="宋体"/>
              </a:rPr>
              <a:t>思考并交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2"/>
          <a:stretch/>
        </p:blipFill>
        <p:spPr>
          <a:xfrm>
            <a:off x="108000" y="1279440"/>
            <a:ext cx="2951280" cy="604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6" descr=""/>
          <p:cNvPicPr/>
          <p:nvPr/>
        </p:nvPicPr>
        <p:blipFill>
          <a:blip r:embed="rId3"/>
          <a:stretch/>
        </p:blipFill>
        <p:spPr>
          <a:xfrm>
            <a:off x="471600" y="2819520"/>
            <a:ext cx="947520" cy="3641760"/>
          </a:xfrm>
          <a:prstGeom prst="rect">
            <a:avLst/>
          </a:prstGeom>
          <a:ln w="0">
            <a:noFill/>
          </a:ln>
        </p:spPr>
      </p:pic>
      <p:sp>
        <p:nvSpPr>
          <p:cNvPr id="776" name="矩形 1"/>
          <p:cNvSpPr/>
          <p:nvPr/>
        </p:nvSpPr>
        <p:spPr>
          <a:xfrm>
            <a:off x="1479600" y="3102120"/>
            <a:ext cx="5454720" cy="459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的愿望要切合实际，不要自高自大，目空一切。我们要脚踏实地地做事，实现自己的人生价值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609480" y="144936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想对其余几粒豌豆说什么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25" descr=""/>
          <p:cNvPicPr/>
          <p:nvPr/>
        </p:nvPicPr>
        <p:blipFill>
          <a:blip r:embed="rId1"/>
          <a:stretch/>
        </p:blipFill>
        <p:spPr>
          <a:xfrm>
            <a:off x="36360" y="76500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-36720" y="1342800"/>
            <a:ext cx="2073600" cy="6120"/>
            <a:chOff x="-36720" y="1342800"/>
            <a:chExt cx="2073600" cy="6120"/>
          </a:xfrm>
        </p:grpSpPr>
        <p:sp>
          <p:nvSpPr>
            <p:cNvPr id="780" name="直线连接符 21"/>
            <p:cNvSpPr/>
            <p:nvPr/>
          </p:nvSpPr>
          <p:spPr>
            <a:xfrm flipV="1">
              <a:off x="-36360" y="13428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 rot="10800000">
              <a:off x="-36720" y="134244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2" name="Picture 2" descr=""/>
          <p:cNvPicPr/>
          <p:nvPr/>
        </p:nvPicPr>
        <p:blipFill>
          <a:blip r:embed="rId2"/>
          <a:stretch/>
        </p:blipFill>
        <p:spPr>
          <a:xfrm>
            <a:off x="738360" y="2685960"/>
            <a:ext cx="766728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323640" y="1627200"/>
            <a:ext cx="2073600" cy="9360"/>
            <a:chOff x="323640" y="1627200"/>
            <a:chExt cx="2073600" cy="9360"/>
          </a:xfrm>
        </p:grpSpPr>
        <p:sp>
          <p:nvSpPr>
            <p:cNvPr id="784" name="直线连接符 21"/>
            <p:cNvSpPr/>
            <p:nvPr/>
          </p:nvSpPr>
          <p:spPr>
            <a:xfrm flipV="1">
              <a:off x="324000" y="1627200"/>
              <a:ext cx="2073240" cy="936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 rot="10800000">
              <a:off x="323640" y="1627200"/>
              <a:ext cx="207324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6" name="Picture 7" descr=""/>
          <p:cNvPicPr/>
          <p:nvPr/>
        </p:nvPicPr>
        <p:blipFill>
          <a:blip r:embed="rId1"/>
          <a:stretch/>
        </p:blipFill>
        <p:spPr>
          <a:xfrm>
            <a:off x="325440" y="1052640"/>
            <a:ext cx="2019240" cy="53316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6"/>
          <p:cNvSpPr/>
          <p:nvPr/>
        </p:nvSpPr>
        <p:spPr>
          <a:xfrm>
            <a:off x="539640" y="270972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　　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矩形 4"/>
          <p:cNvSpPr/>
          <p:nvPr/>
        </p:nvSpPr>
        <p:spPr>
          <a:xfrm>
            <a:off x="36360" y="19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矩形 2"/>
          <p:cNvSpPr/>
          <p:nvPr/>
        </p:nvSpPr>
        <p:spPr>
          <a:xfrm>
            <a:off x="539640" y="20588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矩形 3"/>
          <p:cNvSpPr/>
          <p:nvPr/>
        </p:nvSpPr>
        <p:spPr>
          <a:xfrm>
            <a:off x="539640" y="205740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是一篇生动感人的童话故事。通过小豌豆的生长和小女孩的康复，称赞了平和、仁爱、敬重生命的生活态度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7" descr=""/>
          <p:cNvPicPr/>
          <p:nvPr/>
        </p:nvPicPr>
        <p:blipFill>
          <a:blip r:embed="rId1"/>
          <a:stretch/>
        </p:blipFill>
        <p:spPr>
          <a:xfrm>
            <a:off x="409680" y="836640"/>
            <a:ext cx="2019240" cy="71100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482400" y="1604880"/>
            <a:ext cx="2073600" cy="7920"/>
            <a:chOff x="482400" y="1604880"/>
            <a:chExt cx="2073600" cy="7920"/>
          </a:xfrm>
        </p:grpSpPr>
        <p:sp>
          <p:nvSpPr>
            <p:cNvPr id="793" name="直线连接符 21"/>
            <p:cNvSpPr/>
            <p:nvPr/>
          </p:nvSpPr>
          <p:spPr>
            <a:xfrm flipV="1">
              <a:off x="482760" y="1604880"/>
              <a:ext cx="2073240" cy="79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 rot="10800000">
              <a:off x="482400" y="1604880"/>
              <a:ext cx="2073240" cy="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文本框 9"/>
          <p:cNvSpPr/>
          <p:nvPr/>
        </p:nvSpPr>
        <p:spPr>
          <a:xfrm>
            <a:off x="1985040" y="1828800"/>
            <a:ext cx="6037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按要求写句子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难到我们永远就在这儿坐下去吗？（改为陈述句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既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温暖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又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舒适。  （用画线词语造句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                           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23"/>
          <p:cNvSpPr/>
          <p:nvPr/>
        </p:nvSpPr>
        <p:spPr>
          <a:xfrm>
            <a:off x="1066680" y="2590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不会永远坐在这儿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23"/>
          <p:cNvSpPr/>
          <p:nvPr/>
        </p:nvSpPr>
        <p:spPr>
          <a:xfrm>
            <a:off x="1066680" y="3505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件事老师处理得体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既解决了同学之间的矛盾</a:t>
            </a: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又维护了同学之间的团结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矩形 6"/>
          <p:cNvSpPr/>
          <p:nvPr/>
        </p:nvSpPr>
        <p:spPr>
          <a:xfrm>
            <a:off x="473040" y="907920"/>
            <a:ext cx="84200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组合 7"/>
          <p:cNvGrpSpPr/>
          <p:nvPr/>
        </p:nvGrpSpPr>
        <p:grpSpPr>
          <a:xfrm>
            <a:off x="4235400" y="1066680"/>
            <a:ext cx="4375080" cy="5187960"/>
            <a:chOff x="4235400" y="1066680"/>
            <a:chExt cx="4375080" cy="5187960"/>
          </a:xfrm>
        </p:grpSpPr>
        <p:sp>
          <p:nvSpPr>
            <p:cNvPr id="516" name="矩形 3"/>
            <p:cNvSpPr/>
            <p:nvPr/>
          </p:nvSpPr>
          <p:spPr>
            <a:xfrm>
              <a:off x="4235400" y="1066680"/>
              <a:ext cx="4375080" cy="5187960"/>
            </a:xfrm>
            <a:prstGeom prst="rect">
              <a:avLst/>
            </a:prstGeom>
            <a:solidFill>
              <a:srgbClr val="ffff00">
                <a:alpha val="45000"/>
              </a:srgbClr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404960" y="3232080"/>
              <a:ext cx="419328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安徒生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1805—1875)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丹麦作家，因童话故事而闻名世界，被誉为“现代童话之父”“世界儿童文学的太阳”。他的作品大都来源于亲身经历过或目睹过的社会生活，真实地描写了穷苦人民的不幸遭遇。其作品想象丰富，情节生动，语言朴素，代表作品有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《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丑小鸭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》《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海的女儿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》《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卖火柴的小女孩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》</a:t>
              </a:r>
              <a:r>
                <a:rPr b="0" lang="zh-CN" sz="21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等。</a:t>
              </a:r>
              <a:endParaRPr b="1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8" name="Picture 9" descr=""/>
          <p:cNvPicPr/>
          <p:nvPr/>
        </p:nvPicPr>
        <p:blipFill>
          <a:blip r:embed="rId1"/>
          <a:stretch/>
        </p:blipFill>
        <p:spPr>
          <a:xfrm>
            <a:off x="0" y="585720"/>
            <a:ext cx="1782720" cy="6285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102657_1212631216854_701467188_1"/>
          <p:cNvPicPr/>
          <p:nvPr/>
        </p:nvPicPr>
        <p:blipFill>
          <a:blip r:embed="rId2"/>
          <a:stretch/>
        </p:blipFill>
        <p:spPr>
          <a:xfrm>
            <a:off x="685800" y="1600200"/>
            <a:ext cx="33498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176040" y="614520"/>
            <a:ext cx="2019600" cy="533160"/>
          </a:xfrm>
          <a:prstGeom prst="rect">
            <a:avLst/>
          </a:prstGeom>
          <a:ln w="0">
            <a:noFill/>
          </a:ln>
        </p:spPr>
      </p:pic>
      <p:grpSp>
        <p:nvGrpSpPr>
          <p:cNvPr id="521" name="组合 5"/>
          <p:cNvGrpSpPr/>
          <p:nvPr/>
        </p:nvGrpSpPr>
        <p:grpSpPr>
          <a:xfrm>
            <a:off x="118800" y="614520"/>
            <a:ext cx="2073600" cy="661680"/>
            <a:chOff x="118800" y="614520"/>
            <a:chExt cx="2073600" cy="661680"/>
          </a:xfrm>
        </p:grpSpPr>
        <p:grpSp>
          <p:nvGrpSpPr>
            <p:cNvPr id="522" name=""/>
            <p:cNvGrpSpPr/>
            <p:nvPr/>
          </p:nvGrpSpPr>
          <p:grpSpPr>
            <a:xfrm>
              <a:off x="118800" y="614520"/>
              <a:ext cx="2073600" cy="661680"/>
              <a:chOff x="118800" y="614520"/>
              <a:chExt cx="2073600" cy="661680"/>
            </a:xfrm>
          </p:grpSpPr>
          <p:sp>
            <p:nvSpPr>
              <p:cNvPr id="523" name="直线连接符 21"/>
              <p:cNvSpPr/>
              <p:nvPr/>
            </p:nvSpPr>
            <p:spPr>
              <a:xfrm flipV="1">
                <a:off x="119160" y="614520"/>
                <a:ext cx="2073240" cy="66168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118800" y="614160"/>
                <a:ext cx="2073240" cy="66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25" name="矩形 14" descr=""/>
          <p:cNvPicPr/>
          <p:nvPr/>
        </p:nvPicPr>
        <p:blipFill>
          <a:blip r:embed="rId2"/>
          <a:stretch/>
        </p:blipFill>
        <p:spPr>
          <a:xfrm>
            <a:off x="3780000" y="96840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3"/>
          <p:cNvSpPr/>
          <p:nvPr/>
        </p:nvSpPr>
        <p:spPr>
          <a:xfrm>
            <a:off x="433440" y="205272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wǎ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图片 19" descr=""/>
          <p:cNvPicPr/>
          <p:nvPr/>
        </p:nvPicPr>
        <p:blipFill>
          <a:blip r:embed="rId3"/>
          <a:stretch/>
        </p:blipFill>
        <p:spPr>
          <a:xfrm>
            <a:off x="324000" y="2629080"/>
            <a:ext cx="841320" cy="8395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21" descr=""/>
          <p:cNvPicPr/>
          <p:nvPr/>
        </p:nvPicPr>
        <p:blipFill>
          <a:blip r:embed="rId4"/>
          <a:stretch/>
        </p:blipFill>
        <p:spPr>
          <a:xfrm>
            <a:off x="3587760" y="262908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29" name="文本框 6"/>
          <p:cNvSpPr/>
          <p:nvPr/>
        </p:nvSpPr>
        <p:spPr>
          <a:xfrm>
            <a:off x="4003200" y="270360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按（按照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Box 23"/>
          <p:cNvSpPr/>
          <p:nvPr/>
        </p:nvSpPr>
        <p:spPr>
          <a:xfrm>
            <a:off x="3564000" y="205272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à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文本框 6"/>
          <p:cNvSpPr/>
          <p:nvPr/>
        </p:nvSpPr>
        <p:spPr>
          <a:xfrm>
            <a:off x="892800" y="2700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豌（豌豆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324000" y="3606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kǒ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图片 19" descr=""/>
          <p:cNvPicPr/>
          <p:nvPr/>
        </p:nvPicPr>
        <p:blipFill>
          <a:blip r:embed="rId5"/>
          <a:stretch/>
        </p:blipFill>
        <p:spPr>
          <a:xfrm>
            <a:off x="318960" y="416556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6"/>
          <p:cNvSpPr/>
          <p:nvPr/>
        </p:nvSpPr>
        <p:spPr>
          <a:xfrm>
            <a:off x="685440" y="42372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恐 （恐怕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图片 21" descr=""/>
          <p:cNvPicPr/>
          <p:nvPr/>
        </p:nvPicPr>
        <p:blipFill>
          <a:blip r:embed="rId6"/>
          <a:stretch/>
        </p:blipFill>
        <p:spPr>
          <a:xfrm>
            <a:off x="6251400" y="4149720"/>
            <a:ext cx="841680" cy="841320"/>
          </a:xfrm>
          <a:prstGeom prst="rect">
            <a:avLst/>
          </a:prstGeom>
          <a:ln w="0">
            <a:noFill/>
          </a:ln>
        </p:spPr>
      </p:pic>
      <p:sp>
        <p:nvSpPr>
          <p:cNvPr id="536" name="文本框 6"/>
          <p:cNvSpPr/>
          <p:nvPr/>
        </p:nvSpPr>
        <p:spPr>
          <a:xfrm>
            <a:off x="6887520" y="4199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耐（耐心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23"/>
          <p:cNvSpPr/>
          <p:nvPr/>
        </p:nvSpPr>
        <p:spPr>
          <a:xfrm>
            <a:off x="6210360" y="347832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nà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6151680" y="1981080"/>
            <a:ext cx="23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shì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图片 19" descr=""/>
          <p:cNvPicPr/>
          <p:nvPr/>
        </p:nvPicPr>
        <p:blipFill>
          <a:blip r:embed="rId7"/>
          <a:stretch/>
        </p:blipFill>
        <p:spPr>
          <a:xfrm>
            <a:off x="6224760" y="255744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6"/>
          <p:cNvSpPr/>
          <p:nvPr/>
        </p:nvSpPr>
        <p:spPr>
          <a:xfrm>
            <a:off x="6620040" y="262908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适（舒适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3"/>
          <p:cNvSpPr/>
          <p:nvPr/>
        </p:nvSpPr>
        <p:spPr>
          <a:xfrm>
            <a:off x="3492360" y="355932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iā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图片 19" descr=""/>
          <p:cNvPicPr/>
          <p:nvPr/>
        </p:nvPicPr>
        <p:blipFill>
          <a:blip r:embed="rId8"/>
          <a:stretch/>
        </p:blipFill>
        <p:spPr>
          <a:xfrm>
            <a:off x="3559320" y="418932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6"/>
          <p:cNvSpPr/>
          <p:nvPr/>
        </p:nvSpPr>
        <p:spPr>
          <a:xfrm>
            <a:off x="4280040" y="4260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抢（玩具枪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图片 19" descr=""/>
          <p:cNvPicPr/>
          <p:nvPr/>
        </p:nvPicPr>
        <p:blipFill>
          <a:blip r:embed="rId1"/>
          <a:stretch/>
        </p:blipFill>
        <p:spPr>
          <a:xfrm>
            <a:off x="1292400" y="1905120"/>
            <a:ext cx="841320" cy="839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"/>
          <p:cNvPicPr/>
          <p:nvPr/>
        </p:nvPicPr>
        <p:blipFill>
          <a:blip r:embed="rId2"/>
          <a:stretch/>
        </p:blipFill>
        <p:spPr>
          <a:xfrm>
            <a:off x="176040" y="614520"/>
            <a:ext cx="2019600" cy="533160"/>
          </a:xfrm>
          <a:prstGeom prst="rect">
            <a:avLst/>
          </a:prstGeom>
          <a:ln w="0">
            <a:noFill/>
          </a:ln>
        </p:spPr>
      </p:pic>
      <p:grpSp>
        <p:nvGrpSpPr>
          <p:cNvPr id="546" name="组合 5"/>
          <p:cNvGrpSpPr/>
          <p:nvPr/>
        </p:nvGrpSpPr>
        <p:grpSpPr>
          <a:xfrm>
            <a:off x="118800" y="614520"/>
            <a:ext cx="2073600" cy="661680"/>
            <a:chOff x="118800" y="614520"/>
            <a:chExt cx="2073600" cy="661680"/>
          </a:xfrm>
        </p:grpSpPr>
        <p:grpSp>
          <p:nvGrpSpPr>
            <p:cNvPr id="547" name=""/>
            <p:cNvGrpSpPr/>
            <p:nvPr/>
          </p:nvGrpSpPr>
          <p:grpSpPr>
            <a:xfrm>
              <a:off x="118800" y="614520"/>
              <a:ext cx="2073600" cy="661680"/>
              <a:chOff x="118800" y="614520"/>
              <a:chExt cx="2073600" cy="661680"/>
            </a:xfrm>
          </p:grpSpPr>
          <p:sp>
            <p:nvSpPr>
              <p:cNvPr id="548" name="直线连接符 21"/>
              <p:cNvSpPr/>
              <p:nvPr/>
            </p:nvSpPr>
            <p:spPr>
              <a:xfrm flipV="1">
                <a:off x="119160" y="614520"/>
                <a:ext cx="2073240" cy="66168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 rot="10800000">
                <a:off x="118800" y="614160"/>
                <a:ext cx="2073240" cy="661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50" name="矩形 14" descr=""/>
          <p:cNvPicPr/>
          <p:nvPr/>
        </p:nvPicPr>
        <p:blipFill>
          <a:blip r:embed="rId3"/>
          <a:stretch/>
        </p:blipFill>
        <p:spPr>
          <a:xfrm>
            <a:off x="3780000" y="542880"/>
            <a:ext cx="1871640" cy="7081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433440" y="1335240"/>
            <a:ext cx="21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bō   lí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图片 19" descr=""/>
          <p:cNvPicPr/>
          <p:nvPr/>
        </p:nvPicPr>
        <p:blipFill>
          <a:blip r:embed="rId4"/>
          <a:stretch/>
        </p:blipFill>
        <p:spPr>
          <a:xfrm>
            <a:off x="324000" y="1911240"/>
            <a:ext cx="841320" cy="83988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1" descr=""/>
          <p:cNvPicPr/>
          <p:nvPr/>
        </p:nvPicPr>
        <p:blipFill>
          <a:blip r:embed="rId5"/>
          <a:stretch/>
        </p:blipFill>
        <p:spPr>
          <a:xfrm>
            <a:off x="3587760" y="191124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554" name="文本框 6"/>
          <p:cNvSpPr/>
          <p:nvPr/>
        </p:nvSpPr>
        <p:spPr>
          <a:xfrm>
            <a:off x="4003200" y="198612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探（探出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3564000" y="1335240"/>
            <a:ext cx="20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tàn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文本框 6"/>
          <p:cNvSpPr/>
          <p:nvPr/>
        </p:nvSpPr>
        <p:spPr>
          <a:xfrm>
            <a:off x="568080" y="1982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玻  璃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3"/>
          <p:cNvSpPr/>
          <p:nvPr/>
        </p:nvSpPr>
        <p:spPr>
          <a:xfrm>
            <a:off x="324000" y="288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图片 19" descr=""/>
          <p:cNvPicPr/>
          <p:nvPr/>
        </p:nvPicPr>
        <p:blipFill>
          <a:blip r:embed="rId6"/>
          <a:stretch/>
        </p:blipFill>
        <p:spPr>
          <a:xfrm>
            <a:off x="318960" y="3448080"/>
            <a:ext cx="841680" cy="83988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6"/>
          <p:cNvSpPr/>
          <p:nvPr/>
        </p:nvSpPr>
        <p:spPr>
          <a:xfrm>
            <a:off x="685440" y="351936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愉 （愉快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3492360" y="284148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rà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图片 19" descr=""/>
          <p:cNvPicPr/>
          <p:nvPr/>
        </p:nvPicPr>
        <p:blipFill>
          <a:blip r:embed="rId7"/>
          <a:stretch/>
        </p:blipFill>
        <p:spPr>
          <a:xfrm>
            <a:off x="3559320" y="3471840"/>
            <a:ext cx="841320" cy="839880"/>
          </a:xfrm>
          <a:prstGeom prst="rect">
            <a:avLst/>
          </a:prstGeom>
          <a:ln w="0">
            <a:noFill/>
          </a:ln>
        </p:spPr>
      </p:pic>
      <p:sp>
        <p:nvSpPr>
          <p:cNvPr id="562" name="文本框 6"/>
          <p:cNvSpPr/>
          <p:nvPr/>
        </p:nvSpPr>
        <p:spPr>
          <a:xfrm>
            <a:off x="4185360" y="3543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绕（盘绕）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1" descr=""/>
          <p:cNvPicPr/>
          <p:nvPr/>
        </p:nvPicPr>
        <p:blipFill>
          <a:blip r:embed="rId1"/>
          <a:stretch/>
        </p:blipFill>
        <p:spPr>
          <a:xfrm>
            <a:off x="176040" y="907920"/>
            <a:ext cx="2019600" cy="533520"/>
          </a:xfrm>
          <a:prstGeom prst="rect">
            <a:avLst/>
          </a:prstGeom>
          <a:ln w="0">
            <a:noFill/>
          </a:ln>
        </p:spPr>
      </p:pic>
      <p:grpSp>
        <p:nvGrpSpPr>
          <p:cNvPr id="564" name="组合 5"/>
          <p:cNvGrpSpPr/>
          <p:nvPr/>
        </p:nvGrpSpPr>
        <p:grpSpPr>
          <a:xfrm>
            <a:off x="118800" y="907560"/>
            <a:ext cx="2073600" cy="662040"/>
            <a:chOff x="118800" y="907560"/>
            <a:chExt cx="2073600" cy="662040"/>
          </a:xfrm>
        </p:grpSpPr>
        <p:grpSp>
          <p:nvGrpSpPr>
            <p:cNvPr id="565" name=""/>
            <p:cNvGrpSpPr/>
            <p:nvPr/>
          </p:nvGrpSpPr>
          <p:grpSpPr>
            <a:xfrm>
              <a:off x="118800" y="907560"/>
              <a:ext cx="2073600" cy="662040"/>
              <a:chOff x="118800" y="907560"/>
              <a:chExt cx="2073600" cy="662040"/>
            </a:xfrm>
          </p:grpSpPr>
          <p:sp>
            <p:nvSpPr>
              <p:cNvPr id="566" name="直线连接符 21"/>
              <p:cNvSpPr/>
              <p:nvPr/>
            </p:nvSpPr>
            <p:spPr>
              <a:xfrm flipV="1">
                <a:off x="119160" y="907560"/>
                <a:ext cx="207324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 txBox="1"/>
              <p:nvPr/>
            </p:nvSpPr>
            <p:spPr>
              <a:xfrm rot="10800000">
                <a:off x="118800" y="907200"/>
                <a:ext cx="207324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68" name="矩形 14" descr=""/>
          <p:cNvPicPr/>
          <p:nvPr/>
        </p:nvPicPr>
        <p:blipFill>
          <a:blip r:embed="rId2"/>
          <a:stretch/>
        </p:blipFill>
        <p:spPr>
          <a:xfrm>
            <a:off x="3059280" y="1674720"/>
            <a:ext cx="2881080" cy="708120"/>
          </a:xfrm>
          <a:prstGeom prst="rect">
            <a:avLst/>
          </a:prstGeom>
          <a:ln w="0">
            <a:noFill/>
          </a:ln>
        </p:spPr>
      </p:pic>
      <p:sp>
        <p:nvSpPr>
          <p:cNvPr id="569" name="文本框 9"/>
          <p:cNvSpPr/>
          <p:nvPr/>
        </p:nvSpPr>
        <p:spPr>
          <a:xfrm>
            <a:off x="275400" y="246852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dòu ji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1"/>
          <p:cNvSpPr/>
          <p:nvPr/>
        </p:nvSpPr>
        <p:spPr>
          <a:xfrm>
            <a:off x="324000" y="29718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豆 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Box 20"/>
          <p:cNvSpPr/>
          <p:nvPr/>
        </p:nvSpPr>
        <p:spPr>
          <a:xfrm>
            <a:off x="325440" y="3619440"/>
            <a:ext cx="165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īng tá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Box 24"/>
          <p:cNvSpPr/>
          <p:nvPr/>
        </p:nvSpPr>
        <p:spPr>
          <a:xfrm>
            <a:off x="179280" y="4124160"/>
            <a:ext cx="14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青 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1763640" y="29019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豌 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3854520" y="28814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按 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1763640" y="36194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qiú fà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1763640" y="41054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囚 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Box 2"/>
          <p:cNvSpPr/>
          <p:nvPr/>
        </p:nvSpPr>
        <p:spPr>
          <a:xfrm>
            <a:off x="3635280" y="3619440"/>
            <a:ext cx="21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chuāng kuà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Box 2"/>
          <p:cNvSpPr/>
          <p:nvPr/>
        </p:nvSpPr>
        <p:spPr>
          <a:xfrm>
            <a:off x="5651640" y="36194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yáng yì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3564000" y="41054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窗   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5545080" y="410544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洋 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18"/>
          <p:cNvSpPr/>
          <p:nvPr/>
        </p:nvSpPr>
        <p:spPr>
          <a:xfrm>
            <a:off x="5796000" y="29005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僵 硬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文本框 9"/>
          <p:cNvSpPr/>
          <p:nvPr/>
        </p:nvSpPr>
        <p:spPr>
          <a:xfrm>
            <a:off x="1929960" y="246708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wān dò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文本框 9"/>
          <p:cNvSpPr/>
          <p:nvPr/>
        </p:nvSpPr>
        <p:spPr>
          <a:xfrm>
            <a:off x="3887640" y="246708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 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àn zhà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文本框 9"/>
          <p:cNvSpPr/>
          <p:nvPr/>
        </p:nvSpPr>
        <p:spPr>
          <a:xfrm>
            <a:off x="5694840" y="24271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  </a:t>
            </a:r>
            <a:r>
              <a:rPr b="0" lang="en-US" sz="2000" spc="-1" strike="noStrike">
                <a:solidFill>
                  <a:srgbClr val="000000"/>
                </a:solidFill>
                <a:latin typeface="方正中等线简体"/>
                <a:ea typeface="方正中等线简体"/>
              </a:rPr>
              <a:t>jiāng yìng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457200" y="1219320"/>
            <a:ext cx="419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初读课文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228600" y="2819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五粒豌豆即将分开时，豌豆们各自的打算，用原文归纳他们的愿望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0880" y="439200"/>
            <a:ext cx="266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ff"/>
                </a:solidFill>
                <a:latin typeface="Arial"/>
                <a:ea typeface="华文中宋"/>
              </a:rPr>
              <a:t>第一粒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现在我要飞到广大的世界里去了！如果你能捉住我，就请你来吧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第一粒豌豆说完就飞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066680" y="3505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2193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二粒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14479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838080" y="3200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我将直接飞进太阳里去，这才像一粒真正的豌豆呢，而且与我的身份非常相称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于是，它也飞走了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1066680" y="4800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自高自大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20880" y="439200"/>
            <a:ext cx="2666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ccff"/>
                </a:solidFill>
                <a:latin typeface="Arial"/>
                <a:ea typeface="华文中宋"/>
              </a:rPr>
              <a:t>第三、四粒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到了哪儿，就在哪儿住下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其余的两粒说，“不过，我们还得向前滚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1066680" y="3505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1447920" y="32767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1447920" y="49528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满足现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02:40:00Z</dcterms:created>
  <dc:creator/>
  <dc:description/>
  <dc:language>en-US</dc:language>
  <cp:lastModifiedBy>万润仪器贸易公司</cp:lastModifiedBy>
  <dcterms:modified xsi:type="dcterms:W3CDTF">2020-08-24T03:34:16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